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4B8-34B3-40DF-9DF5-17F9FB31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EEC-F72C-47CA-88E5-D2925AAA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B81-0C13-4308-9187-01750A6A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655-2138-41A2-AE0E-B1A314FA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8C04-91DA-4C68-A12D-2D837992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DFC2-FFD5-49D3-8E4F-539B5AEB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AA19-1830-4E0A-B794-E67F2A9F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5939-F73B-4CE0-B35D-AD743300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B721-950A-43F2-84A3-C03041A2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2C78-7D21-42F2-BA2D-13F13DD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82DF-CA7B-4ABB-9F24-EDA663FD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30F-1C00-47E1-B50F-2FEAAD6E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B30C-E9B8-45B2-A44B-4DC87CE1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E16D-6C33-467A-94B4-A3A4BC4B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ED5-5C3B-4D36-A2E8-9E45C694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175A-4FF8-48FC-9BF9-505274BC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870A-82AF-4E49-A8BE-2A58165A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6AA3-62C4-4991-B299-3EBB9A7C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B505-1DE7-47A7-BBF8-E62DD135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6C33-B435-42B6-B362-F6646A29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B262-F038-4DE3-8077-713CDCF3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DB49-485F-4423-9208-F2DC6D5A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6BC-4FF3-4750-9146-C729521C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765F-354F-4447-9C23-93A3E27A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DC63-F5A6-43CF-A261-F25FF61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7C5A-759C-4427-A6AA-93C12C6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4AA6-A391-4CAD-8057-1E14B2F2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A428-AC2C-4870-A894-A76AF2FD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0189E-09C0-455E-96DC-C0170BF0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A54E-D197-4D95-BCFD-39AD2FEE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1355E-9836-4F15-A862-016895F8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E552-9F37-4865-9099-88C618B0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602F-7F0B-4CCF-BF99-143F21DD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A59-2451-402F-A4E2-40064C17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0CB16-8A63-4DB3-AF0A-198D0A92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521C5-FC00-4E59-8738-8505063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702B6-DBCD-4B8D-9A8B-418777D2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278E-BCD6-4765-9063-D34E952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B1C1-05AD-4A11-9FB0-9D77B3EE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606E-DEDF-4925-8D0F-2BD8E8E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697B-BF3A-42FC-80CE-CC08B3D2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FA3C8-A68D-4F32-9DF3-86EAF2A6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5170A-4E2F-45A9-A08F-374055F0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0D685-314F-4D4E-AA4F-5BAE517E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14F-A7B7-40E5-9FD6-9C8E8BA6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F8C0A-CF85-496D-97D9-CD976110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C8373-7B73-4EDB-8865-ACAC4C82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E24F0-D10D-4DE0-94AB-86E8F062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B3D7C-F43B-4346-B9E5-FB5D35DA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76BC-1DB1-4C16-B570-F39B5196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5D3B1-CD0E-40E1-AD0A-1C0DAB2A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D5690-FC3E-4F13-843F-334C9DE8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B51FF-BF40-4AA1-BD85-DFC22757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D486-3709-4538-B9C5-661EFBC2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04788-A82E-4D36-BFDA-2CB32707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315-AA2B-4D43-8F79-F5BDC940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C48F8-AB41-4B2F-904D-11B5F3A1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E3FF7-9027-4D69-B5A5-9E958E4E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2732C-B6BC-458E-A910-D690EB7F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FB9FB-0F24-4BB8-86F6-AD505B9C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8AE61-BB50-463B-826A-DA16D9B6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279D0-8B27-4D83-A7B0-77175A24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66AC5-60D4-4B63-81FC-A2EDCEAE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F099E-843A-496C-A3E9-C07FD35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5C4E7-CB2A-4AA3-B230-90FF2FE5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40133-62CB-4A4E-825F-C7A547CE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5C5-4125-4E6B-A04A-44FAF0A8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3E48-C4AA-4339-ABB5-14B85B25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9F5AE-C2F5-4770-8E9B-EE445B88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243C-A99B-4464-9283-80A2C57B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52E-9960-4F62-A221-E57B60A0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40E-6966-468C-BE44-8953AFF7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884A-4A4F-46A3-A63E-77D83A73D75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6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6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0074-8AD4-4657-BD06-2D7973E888F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ACE2-706F-49BD-B271-1C4FA33275A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6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6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AB74-48C3-49AC-8F9C-405ACF1F6CF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10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10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68D3-5C48-4A40-A2AB-27D80A16751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7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7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93AC-C3A3-4517-88B1-C3715A51957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4 CuadroTexto"/>
          <p:cNvSpPr/>
          <p:nvPr/>
        </p:nvSpPr>
        <p:spPr>
          <a:xfrm>
            <a:off x="324000" y="1197000"/>
            <a:ext cx="8280360" cy="51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n regiones de clima continental con gran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mplitud térmic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 Dominan las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situaciones anticiclónic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por lo que las precipitaciones son escasas (por debajo de 250 mm anuales). En estas condiciones, el agente más habitual es el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vient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aunque el agua, cuando hace su aparición, suele tener efectos importantes, dada la escasez en la cubierta veget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Las zonas desérticas de los trópicos y de las zonas templadas se ajustan bien a este sistema, de manera que los grandes desiertos se localizan, mayoritariamente a ambos lados de los trópicos, en las regiones cálidas predominantemente anticiclónic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or la ausencia de vegetación, el impacto del agua es muy acusado tras las escasas pero intensas precipit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 escasa humedad ambiental hace que el efecto de la meteorización química sea muy limitado, dominando la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meteorización mecánic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, en la que los procesos habituales s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- Amplitud térmica, de hasta 60 ºC entre el día y la noche. Da lugar a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enómenos de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rmoclasti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- Cristalización de sales. Existen sales disueltas en el agua, qu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ristalizan por efecto de la intensa evaporación. Esto produce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haloclasti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SISTEMA MORFOCLIMÁTICO ÁR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Introducción (continuación)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1628640"/>
            <a:ext cx="784872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acción del viento se suma a la descamación producida por la meteorización mecánica y la intensa insolación. El viento, además transporta materiales en suspensión, cuya presencia aumenta el efecto del desgaste. El proceso de erosión debido al viento y los materiales que transporta se denomina corrasión e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impactos que provocan los materiales en suspensión sobre las superficies rocosas contra las que chocan generan las siguientes formas erosivas: nidos de abejas, taffonis, uad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bién acumulaciones salinas como eflorescencias y cali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último veremos la estructura de un desierto con un núcleo rocoso central donde actúa la erosión eólica, un desierto pedregoso, donde la erosión y el transporte dejan las rocas desnudas, y un desierto arenoso producto de la sedim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Efectos de la erosión eólica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68360" y="4292640"/>
            <a:ext cx="2305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idos de abej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Aquí el viento con partículas en suspensión juega el papel fundamental. La roca presenta a priori zonas más débiles donde hay más abundancia de materiales blan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4581360"/>
            <a:ext cx="2952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ffo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on de una escala mucho mayor que los nidos de abejas (metros), y en su formación –además del vie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viene el contenido en sal de la escasa humedad ambiental y un proceso cíclico de humectación-dese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132000" y="1125360"/>
            <a:ext cx="4954680" cy="33735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Tafoni en el desierto de Atacama, entre Caldera y Chañarl (geología - sedimentología)"/>
          <p:cNvPicPr/>
          <p:nvPr/>
        </p:nvPicPr>
        <p:blipFill>
          <a:blip r:embed="rId3"/>
          <a:stretch/>
        </p:blipFill>
        <p:spPr>
          <a:xfrm>
            <a:off x="6084720" y="4562640"/>
            <a:ext cx="27910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Efectos de la erosión eólica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23" name="" descr="File:NachalParan1.jpg"/>
          <p:cNvPicPr/>
          <p:nvPr/>
        </p:nvPicPr>
        <p:blipFill>
          <a:blip r:embed="rId1"/>
          <a:stretch/>
        </p:blipFill>
        <p:spPr>
          <a:xfrm>
            <a:off x="395280" y="1268280"/>
            <a:ext cx="5610240" cy="42087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227640" y="1700280"/>
            <a:ext cx="2737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ad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n valles con cauces producidos por una acumulación de agua que, después de grandes precipitaciones, permanecen secos casi todo el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en acumular una gran cantidad de fragmentos en el fo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Acumulaciones salina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1197000"/>
            <a:ext cx="83534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 los sistemas áridos, la intensa evaporación diurna del agua infiltrada hace que las sales disueltas asciendan y se concentren en la superficie o cerca de ella constituyendo diversas formacion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alich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acumulaciones de Ca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n el subsuelo por el arrastre de aguas carbonatadas con las precipit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aciones minerales de yeso de forma lenticular llamadas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Rosas del desiert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Eflorescencias salin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acumulaciones de sales del tipo de los cloruros o como el yeso, de color blanquecino formadas por el ascenso por capilaridad del agua con sales disuelt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95280" y="4048200"/>
            <a:ext cx="3960720" cy="26510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763640" y="34178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796000" y="43657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236000" y="303048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Estructura de los desierto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1125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ctuación de los distintos agentes en las diferentes áreas del desierto origina una morfología típica que, desde el centro a la periferia se distribuy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2060640"/>
            <a:ext cx="208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ierto roco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Núcleo central del desierto formado por grandes bloques rocosos abundantes en taffonis, nidos de abejas y grie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11892" t="0" r="9503" b="0"/>
          <a:stretch/>
        </p:blipFill>
        <p:spPr>
          <a:xfrm>
            <a:off x="108000" y="3952800"/>
            <a:ext cx="5256000" cy="2755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084720" y="198900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Desierto de piedras con fragmentos rocos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012000" y="2565360"/>
            <a:ext cx="2381040" cy="17146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626080" y="4581360"/>
            <a:ext cx="3122640" cy="2078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2627280" y="1773360"/>
            <a:ext cx="27352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Estructura de los desiertos (continuación)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"/>
          <p:cNvSpPr/>
          <p:nvPr/>
        </p:nvSpPr>
        <p:spPr>
          <a:xfrm>
            <a:off x="755640" y="1557360"/>
            <a:ext cx="316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r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Desierto de arena con dunas, especialmente barjanes o dunas semicirculares en forma de media l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162864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pósitos de Lo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n sedimentos de grano más fino que la arena. Se sitúa en la periferia del desi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3168720" cy="21304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179280" y="4941720"/>
            <a:ext cx="2519640" cy="166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3492360" y="2924280"/>
          <a:ext cx="5467320" cy="36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924280"/>
                    <a:ext cx="546732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Estructura del desierto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07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9:31:07Z</dcterms:created>
  <dc:creator>Pedro F Martinez</dc:creator>
  <dc:description/>
  <dc:language>en-US</dc:language>
  <cp:lastModifiedBy>Rafael Moreno</cp:lastModifiedBy>
  <dcterms:modified xsi:type="dcterms:W3CDTF">2012-10-24T23:26:42Z</dcterms:modified>
  <cp:revision>86</cp:revision>
  <dc:subject/>
  <dc:title>AGENTES GEOLÓGICOS EXTERNOS</dc:title>
</cp:coreProperties>
</file>